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AFE3-5D59-4C57-9321-FD313639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48A-5B02-4642-8F86-ED7A60DB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ACD3D-EC8E-4E75-B154-56C03017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6C21A-1AE9-49F3-BDD4-A6C74BFF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3DF81-37F7-43B3-A00C-4FE4EFD6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F0B54-1860-45F7-A50F-4B149B9C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16671-3834-4B74-B3FA-2E305873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A5C65-1F7D-4719-AA0C-CBB4B400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90DC1-EDCD-4E13-B01C-77C2320E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642AF-FE1F-4EC4-82E8-C90D7F24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084FF-B10A-44DD-BC82-918F899E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1C89-2FE3-4914-98CA-7967EAB1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935-ABA3-4EFC-8C8E-D7D453E4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288E-C9DC-4B33-BD25-B5B7C558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9353-3BB7-4879-B22E-96E24459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2DBA-1697-4CDB-934C-0A8C65AC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2385-F001-481D-9CAB-8E9D1931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F241-1D9D-4783-B105-968B4DC0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D573-B591-425A-9A9B-10FD0F8A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A5E0-9AB2-4B2E-828B-2E5E51ED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B220-322E-45F5-8DF8-011AE935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9B7D-0A0B-4A77-B5B0-68FBD395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3A78-DA7C-4213-B136-FF8FEB75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24AB-D6D8-4B93-B0CC-BBB879A5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3B12-EFA8-421C-A8CD-0D3F8325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DA15-EC76-47B4-9EBE-C82707F0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759AC-D98F-4E0A-9BC6-B2546C35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9BFF3-9DA6-4F55-81B8-619C08E3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B7C95-DC66-482D-AB8D-581224EB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75908-11E4-4959-95FB-94E54F0D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A80C5-3ABC-497F-9514-EB1E35BD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9592-879D-40D0-BF33-BFD57963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65F4E4-1D52-4B13-B63D-7ED9CDE3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CF558-96AB-42CD-A3CB-23C470BE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96184A-DFAB-47CD-A61F-567FF0EB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96456-75D6-42DE-BF8F-2414D1F6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FF266-2725-4420-85A7-8C3B2B60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7C35A-37EB-4D2C-B43F-33AC1BFE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D656E4-A56E-4559-949C-599DEAAB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44AEBE-BE10-4F2C-A978-23F3946A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7A71C0-E8D3-4509-BA02-215EED33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FCAF4E-BEBD-48B8-ACF9-C01F2A6C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30A5-3AB2-449E-ACD7-7DBEAE78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0A61D5-6768-4B37-B1F9-68D03B85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80F9E9-45FE-42F9-8C03-15A97903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DB78BA-6E6B-47FE-8714-A2A7F708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FE0D8F-F363-49F8-A1BA-50BBEFAB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4BB93C-C32D-4DAE-8799-F8918D3E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6B3DFF-9D21-4081-B94E-43770F32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BAC9EB-E0D4-481B-881F-959225FB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272FD8-6CBA-4F69-8091-772FA271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0E2BA5-941F-4E81-8575-6ACDD8C2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31DC5D-B654-453E-820E-A43FF456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0715-9463-49F6-A67E-19655680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F113B2-5E35-4283-ACE8-47C70235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DBB4D7-6A46-4E21-9E5A-65C38BD3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4D7128-EB10-4E83-A404-0714C080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711FD3-7F1F-4A5B-A59C-8762EC4C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E9B127-767F-4BB1-BB85-CDFD5FFB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D3C191-4234-4687-8DBC-A629AEB6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6C334B-806A-432D-AEF2-8276E233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6CC4B9-E052-4A85-9BFF-95225CA7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DA178D-8043-41D6-93D9-C55805CD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95DF7F-958E-4A20-9B8C-680EF41C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EC93-7BFA-42D0-B0CF-59EA37DD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BCB250-C511-41C2-840C-33A2528D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D9BBE-B360-4F6C-B9CE-00C8EB7E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A02D1-D104-4501-9D5F-444DE589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C1EEA-477C-4315-8118-9E636AB2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928E5-9DB1-4493-9B5F-F65AC1BE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5BE34-BDB6-4506-8CCF-32441FED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4128F-EBDC-4F6D-87DB-C234B3DF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5A73E-D460-4C94-89D0-8C0CF9A9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CA6E3-38AE-49F2-9429-09929DD6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5A116-9777-4B6C-A7E8-DD8478A6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5571-A0CF-4C16-BFB7-51EF46D9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386E4-76A1-4FFB-BB1E-82462E52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DA767-E7FD-48A2-9C3B-186F50E9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7E836-B64E-4BC4-8716-70A5AB5A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45F3A2-E93C-4328-8DC0-AD49E270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39C9D6-8903-4C97-AFB3-C1D5E9D1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0DA872-6931-40FC-9F31-7AD836BC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E3D46E-C1F4-4651-B29C-4D680122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1462D3-B7EA-4DE4-9A81-17F14DD8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EA7793-2F6A-4190-A92F-7B81A401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C6F4D9-130F-4C95-A8C0-7CFF6A30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C3D6-1EE3-459B-B521-DE792A2C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24E6C1-735A-461B-997E-F94FEAC8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9C272A-EE35-4BDC-8683-C218E6C7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64C199-E14F-45E4-91F0-574D51F6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0CBCFE-A1F8-46BE-88E6-746C701E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D9A668-8242-4D32-B1D1-3ED53E4C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A46D6-722F-4C05-B041-006D8ACE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0CA5F-A50D-4CE6-8850-BE8F53B6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6C6C0-4288-449B-B66C-2D3428E7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5B923-52BD-4CA3-96C1-C74782FD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1BE4F-30A2-477A-839D-21EEB3FD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046-C12C-46DD-B58B-3D17BC76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5C052-5899-4116-AE05-A77DA8C6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8841F-374E-4434-B228-ED6BC9B3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C673D-4850-4AD8-AA6A-08CFF932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F41F5-7350-4C47-9DB6-838A74B4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A1C4A-EA0F-4E2B-BACF-11CB79A0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83E21-CAD1-4860-85FA-3008D034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9BD9F-7A88-4101-8237-82217B00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1F5D9-72F4-4073-B1B3-D07CBEEE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8F405-78DF-459A-990F-414D2926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332FB-BE05-44D9-9EE3-88368EBD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E923-246F-45F7-B103-7226F470344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DE57-23EF-4DA8-997E-75E1DA1C46ED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990C-5BA0-4684-A0A1-0C7C8D0E736F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7850-0516-4D2D-94A7-F1C8BD25139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6E03-522D-4E20-BA93-C4B3171061E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7179-3D0E-4666-95A2-F059C27AA406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BB34-EEA2-49DB-8128-A4B1B16AF69C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7B90-4A93-4E91-9CC7-B3F68F2F729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D26F-F024-4CA7-9468-3AE8013FB5B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zapodarkami.kiev.ua/fotos/b/864267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Hydrogen_peroxide.jpg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75f55"/>
                </a:solidFill>
                <a:latin typeface="Calibri"/>
              </a:rPr>
              <a:t>Химическая кинетика </a:t>
            </a:r>
            <a:br>
              <a:rPr sz="4000"/>
            </a:br>
            <a:endParaRPr b="0" lang="en-US" sz="48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95" name="Picture 3" descr="U02_15"/>
          <p:cNvPicPr/>
          <p:nvPr/>
        </p:nvPicPr>
        <p:blipFill>
          <a:blip r:embed="rId1"/>
          <a:stretch/>
        </p:blipFill>
        <p:spPr>
          <a:xfrm>
            <a:off x="928800" y="1785960"/>
            <a:ext cx="69292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63280" y="836280"/>
            <a:ext cx="5797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Влияние температур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79440" y="2825640"/>
            <a:ext cx="81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Вант-Гоф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При нагревании системы на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10 ˚С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скорость реакции возрастает в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2-4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365040" y="3584520"/>
            <a:ext cx="405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емпературный коэффици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нт-Гоф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5" descr="van__t_hoff"/>
          <p:cNvPicPr/>
          <p:nvPr/>
        </p:nvPicPr>
        <p:blipFill>
          <a:blip r:embed="rId1"/>
          <a:stretch/>
        </p:blipFill>
        <p:spPr>
          <a:xfrm>
            <a:off x="6858000" y="476280"/>
            <a:ext cx="2071800" cy="1942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46" name="Text Box 17"/>
          <p:cNvSpPr/>
          <p:nvPr/>
        </p:nvSpPr>
        <p:spPr>
          <a:xfrm>
            <a:off x="6983640" y="2365200"/>
            <a:ext cx="20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Palatino Linotype"/>
              </a:rPr>
              <a:t>Якоб Вант-Гоф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Palatino Linotype"/>
              </a:rPr>
              <a:t>    </a:t>
            </a:r>
            <a:r>
              <a:rPr b="0" lang="ru-RU" sz="1800" spc="-1" strike="noStrike">
                <a:solidFill>
                  <a:srgbClr val="775f55"/>
                </a:solidFill>
                <a:latin typeface="Palatino Linotype"/>
              </a:rPr>
              <a:t>(1852-19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1" descr="Цифровой термометр гигрометр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1571760"/>
            <a:ext cx="2214720" cy="12776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2" descr="градусник"/>
          <p:cNvPicPr/>
          <p:nvPr/>
        </p:nvPicPr>
        <p:blipFill>
          <a:blip r:embed="rId4"/>
          <a:stretch/>
        </p:blipFill>
        <p:spPr>
          <a:xfrm>
            <a:off x="971640" y="33336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26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2"/>
              <p:cNvSpPr txBox="1"/>
              <p:nvPr/>
            </p:nvSpPr>
            <p:spPr>
              <a:xfrm>
                <a:off x="4857840" y="3714840"/>
                <a:ext cx="3746520" cy="23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p>
                              <m:e>
                                <m:r>
                                  <m:t xml:space="preserve">Δt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451" name="B9-08.avi" descr=""/>
          <p:cNvPicPr/>
          <p:nvPr/>
        </p:nvPicPr>
        <p:blipFill>
          <a:blip r:embed="rId5"/>
          <a:stretch/>
        </p:blipFill>
        <p:spPr>
          <a:xfrm>
            <a:off x="2286000" y="3929040"/>
            <a:ext cx="2357280" cy="121464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12"/>
          <p:cNvSpPr/>
          <p:nvPr/>
        </p:nvSpPr>
        <p:spPr>
          <a:xfrm flipV="1" rot="10800000">
            <a:off x="428400" y="4228200"/>
            <a:ext cx="242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вышении температуры, увеличивается скорость движения частиц, поэтому они чаще сталкиваются, а значит скорость реакции возраста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6" dur="1" fill="hold"/>
                                        <p:tgtEl>
                                          <p:spTgt spid="4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Взаимодействие магния с водой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54" name="B9-39.avi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500360" cy="46432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апишите уравнение  реакции взаимодействия магния с водо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g+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=MgO+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1" dur="1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Природа реагирующих веществ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еталлы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I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групп главных подгрупп взаимодействуют с водой с образованием щёлочи и выделением водорода. Например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Na + 2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 = 2NaOH + 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K + 2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 = 2KOH + 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 + 2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 = Ca(OH)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Line 4"/>
          <p:cNvSpPr/>
          <p:nvPr/>
        </p:nvSpPr>
        <p:spPr>
          <a:xfrm>
            <a:off x="565164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Природа реагирующих веществ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60" name="B8-32.avi" descr=""/>
          <p:cNvPicPr/>
          <p:nvPr/>
        </p:nvPicPr>
        <p:blipFill>
          <a:blip r:embed="rId1"/>
          <a:stretch/>
        </p:blipFill>
        <p:spPr>
          <a:xfrm>
            <a:off x="250920" y="1714680"/>
            <a:ext cx="4606920" cy="48574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Чем активнее вещество, тем скорость реакции с его участием больш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0" dur="1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Площадь соприкосновения реагирующих веществ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рость гетерогенных реакций зависит от площади соприкосновения вещест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терогенные реакции идут только на поверхности раздела реагирующих вещест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рость гетерогенной реакции выражается формуло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Object 4"/>
              <p:cNvSpPr txBox="1"/>
              <p:nvPr/>
            </p:nvSpPr>
            <p:spPr>
              <a:xfrm>
                <a:off x="4645080" y="5118120"/>
                <a:ext cx="3934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5" name="Group 5"/>
          <p:cNvGrpSpPr/>
          <p:nvPr/>
        </p:nvGrpSpPr>
        <p:grpSpPr>
          <a:xfrm>
            <a:off x="3360240" y="5000760"/>
            <a:ext cx="1716120" cy="904320"/>
            <a:chOff x="3360240" y="5000760"/>
            <a:chExt cx="1716120" cy="904320"/>
          </a:xfrm>
        </p:grpSpPr>
        <p:grpSp>
          <p:nvGrpSpPr>
            <p:cNvPr id="466" name="Group 6"/>
            <p:cNvGrpSpPr/>
            <p:nvPr/>
          </p:nvGrpSpPr>
          <p:grpSpPr>
            <a:xfrm>
              <a:off x="4298760" y="5000760"/>
              <a:ext cx="777600" cy="904320"/>
              <a:chOff x="4298760" y="5000760"/>
              <a:chExt cx="777600" cy="904320"/>
            </a:xfrm>
          </p:grpSpPr>
          <p:sp>
            <p:nvSpPr>
              <p:cNvPr id="467" name="Text Box 7"/>
              <p:cNvSpPr/>
              <p:nvPr/>
            </p:nvSpPr>
            <p:spPr>
              <a:xfrm>
                <a:off x="4298760" y="5000760"/>
                <a:ext cx="777600" cy="90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ahoma"/>
                  </a:rPr>
                  <a:t>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∆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1" lang="ru-RU" sz="2000" spc="-1" strike="noStrike" baseline="-25000">
                    <a:solidFill>
                      <a:srgbClr val="000000"/>
                    </a:solidFill>
                    <a:latin typeface="Tahoma"/>
                  </a:rPr>
                  <a:t>*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8"/>
              <p:cNvSpPr/>
              <p:nvPr/>
            </p:nvSpPr>
            <p:spPr>
              <a:xfrm>
                <a:off x="4426920" y="5523120"/>
                <a:ext cx="36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Text Box 9"/>
            <p:cNvSpPr/>
            <p:nvPr/>
          </p:nvSpPr>
          <p:spPr>
            <a:xfrm>
              <a:off x="3360240" y="5237280"/>
              <a:ext cx="110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Tahoma"/>
                </a:rPr>
                <a:t>гетерог.</a:t>
              </a: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10"/>
          <p:cNvGrpSpPr/>
          <p:nvPr/>
        </p:nvGrpSpPr>
        <p:grpSpPr>
          <a:xfrm>
            <a:off x="5435640" y="5229360"/>
            <a:ext cx="1387440" cy="822960"/>
            <a:chOff x="5435640" y="5229360"/>
            <a:chExt cx="1387440" cy="822960"/>
          </a:xfrm>
        </p:grpSpPr>
        <p:sp>
          <p:nvSpPr>
            <p:cNvPr id="471" name="Text Box 11"/>
            <p:cNvSpPr/>
            <p:nvPr/>
          </p:nvSpPr>
          <p:spPr>
            <a:xfrm>
              <a:off x="5435640" y="54612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2"/>
            <p:cNvSpPr/>
            <p:nvPr/>
          </p:nvSpPr>
          <p:spPr>
            <a:xfrm>
              <a:off x="5815080" y="5229360"/>
              <a:ext cx="100800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М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м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ru-RU" sz="1800" spc="-1" strike="noStrike" baseline="-25000">
                  <a:solidFill>
                    <a:srgbClr val="000000"/>
                  </a:solidFill>
                  <a:latin typeface="Tahoma"/>
                </a:rPr>
                <a:t>*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5887800" y="566136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14"/>
          <p:cNvSpPr/>
          <p:nvPr/>
        </p:nvSpPr>
        <p:spPr>
          <a:xfrm>
            <a:off x="5580000" y="5084640"/>
            <a:ext cx="59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5"/>
          <p:cNvSpPr/>
          <p:nvPr/>
        </p:nvSpPr>
        <p:spPr>
          <a:xfrm>
            <a:off x="6443640" y="5084640"/>
            <a:ext cx="59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Скорость гетерогенных реакций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77" name="B8-47.avi" descr=""/>
          <p:cNvPicPr/>
          <p:nvPr/>
        </p:nvPicPr>
        <p:blipFill>
          <a:blip r:embed="rId1"/>
          <a:stretch/>
        </p:blipFill>
        <p:spPr>
          <a:xfrm>
            <a:off x="324000" y="1714680"/>
            <a:ext cx="4533840" cy="46432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Чем больше поверхность соприкосновения веществ, тем выше скорость реакц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2" dur="1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920" y="620280"/>
            <a:ext cx="306072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Катализ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80" name="Picture 5" descr="Bercel"/>
          <p:cNvPicPr/>
          <p:nvPr/>
        </p:nvPicPr>
        <p:blipFill>
          <a:blip r:embed="rId1"/>
          <a:stretch/>
        </p:blipFill>
        <p:spPr>
          <a:xfrm>
            <a:off x="468360" y="2276640"/>
            <a:ext cx="1146240" cy="12762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7"/>
          <p:cNvSpPr/>
          <p:nvPr/>
        </p:nvSpPr>
        <p:spPr>
          <a:xfrm>
            <a:off x="1657800" y="2565360"/>
            <a:ext cx="25138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енс Якоб Берцели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ел термин «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атализ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35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432360" y="3573360"/>
            <a:ext cx="645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Катализатор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– вещество, изменяющее скорость реак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частвует в промежуточных стадиях реак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о не входит в состав продуктов реак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2176560" y="4737240"/>
            <a:ext cx="446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2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0"/>
          <p:cNvSpPr/>
          <p:nvPr/>
        </p:nvSpPr>
        <p:spPr>
          <a:xfrm>
            <a:off x="2187360" y="5950080"/>
            <a:ext cx="579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Euclid Extra"/>
              </a:rPr>
              <a:t>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2172960" y="5354640"/>
            <a:ext cx="460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Euclid Extra"/>
              </a:rPr>
              <a:t>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2" descr="ostwald"/>
          <p:cNvPicPr/>
          <p:nvPr/>
        </p:nvPicPr>
        <p:blipFill>
          <a:blip r:embed="rId2"/>
          <a:stretch/>
        </p:blipFill>
        <p:spPr>
          <a:xfrm>
            <a:off x="4859280" y="1989000"/>
            <a:ext cx="1219320" cy="164952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4"/>
          <p:cNvSpPr/>
          <p:nvPr/>
        </p:nvSpPr>
        <p:spPr>
          <a:xfrm>
            <a:off x="6076080" y="2435400"/>
            <a:ext cx="2955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льгельм Остваль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09 г. – Нобелевская прем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в признание работ по катализ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5"/>
          <p:cNvSpPr/>
          <p:nvPr/>
        </p:nvSpPr>
        <p:spPr>
          <a:xfrm>
            <a:off x="4859280" y="4941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6"/>
          <p:cNvSpPr/>
          <p:nvPr/>
        </p:nvSpPr>
        <p:spPr>
          <a:xfrm>
            <a:off x="4815000" y="50356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Скорость и катализатор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91" name="B8-48.avi" descr=""/>
          <p:cNvPicPr/>
          <p:nvPr/>
        </p:nvPicPr>
        <p:blipFill>
          <a:blip r:embed="rId1"/>
          <a:stretch/>
        </p:blipFill>
        <p:spPr>
          <a:xfrm>
            <a:off x="250920" y="1571760"/>
            <a:ext cx="4464000" cy="46432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4648320" y="198108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тализатор увеличивает скорость химической реакц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9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900" spc="-1" strike="noStrike" baseline="-25000">
                <a:solidFill>
                  <a:srgbClr val="000000"/>
                </a:solidFill>
                <a:latin typeface="Calibri"/>
              </a:rPr>
              <a:t>22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900" spc="-1" strike="noStrike" baseline="-25000">
                <a:solidFill>
                  <a:srgbClr val="000000"/>
                </a:solidFill>
                <a:latin typeface="Calibri"/>
              </a:rPr>
              <a:t>11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=12СО</a:t>
            </a:r>
            <a:r>
              <a:rPr b="0" lang="ru-RU" sz="29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+11Н</a:t>
            </a:r>
            <a:r>
              <a:rPr b="0" lang="ru-RU" sz="29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6226560" y="37162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7" dur="1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Механизм каталитических реакций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ля реакции:  А + В = А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9900"/>
                </a:solidFill>
                <a:latin typeface="Calibri"/>
              </a:rPr>
              <a:t>Механизм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тализатор взаимодействует с исходным веществом:  А + К = А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межуточное соединение взаимодействует с другим исходным веществом:  АК + В = АВ + 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уммарное уравнение:  А + В = А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5"/>
          <p:cNvSpPr/>
          <p:nvPr/>
        </p:nvSpPr>
        <p:spPr>
          <a:xfrm>
            <a:off x="282600" y="3213000"/>
            <a:ext cx="19332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7  бе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ерблю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6662520" y="2781360"/>
            <a:ext cx="233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00"/>
                </a:solidFill>
                <a:latin typeface="Arial"/>
              </a:rPr>
              <a:t>Кай Линдерстрём-Ла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808000"/>
                </a:solidFill>
                <a:latin typeface="Arial"/>
              </a:rPr>
              <a:t>(1896-195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1351080" y="69228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тча о катали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"/>
          <p:cNvSpPr/>
          <p:nvPr/>
        </p:nvSpPr>
        <p:spPr>
          <a:xfrm>
            <a:off x="549000" y="422100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1 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блюжон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9"/>
          <p:cNvSpPr/>
          <p:nvPr/>
        </p:nvSpPr>
        <p:spPr>
          <a:xfrm>
            <a:off x="2647800" y="2205000"/>
            <a:ext cx="816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/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0"/>
          <p:cNvSpPr/>
          <p:nvPr/>
        </p:nvSpPr>
        <p:spPr>
          <a:xfrm>
            <a:off x="755640" y="5157720"/>
            <a:ext cx="79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1"/>
          <p:cNvSpPr/>
          <p:nvPr/>
        </p:nvSpPr>
        <p:spPr>
          <a:xfrm>
            <a:off x="395280" y="5084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2"/>
          <p:cNvSpPr/>
          <p:nvPr/>
        </p:nvSpPr>
        <p:spPr>
          <a:xfrm>
            <a:off x="5076000" y="2205000"/>
            <a:ext cx="435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3"/>
          <p:cNvSpPr/>
          <p:nvPr/>
        </p:nvSpPr>
        <p:spPr>
          <a:xfrm>
            <a:off x="3780000" y="2492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4"/>
          <p:cNvSpPr/>
          <p:nvPr/>
        </p:nvSpPr>
        <p:spPr>
          <a:xfrm>
            <a:off x="370836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5"/>
          <p:cNvSpPr/>
          <p:nvPr/>
        </p:nvSpPr>
        <p:spPr>
          <a:xfrm>
            <a:off x="3708360" y="4724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6"/>
          <p:cNvSpPr/>
          <p:nvPr/>
        </p:nvSpPr>
        <p:spPr>
          <a:xfrm>
            <a:off x="4859280" y="5229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7"/>
          <p:cNvSpPr/>
          <p:nvPr/>
        </p:nvSpPr>
        <p:spPr>
          <a:xfrm>
            <a:off x="4932360" y="5300640"/>
            <a:ext cx="79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8"/>
          <p:cNvSpPr/>
          <p:nvPr/>
        </p:nvSpPr>
        <p:spPr>
          <a:xfrm>
            <a:off x="6237000" y="522936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1 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блюжон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19" descr="Линдерстрем-Ланг"/>
          <p:cNvPicPr/>
          <p:nvPr/>
        </p:nvPicPr>
        <p:blipFill>
          <a:blip r:embed="rId1"/>
          <a:stretch/>
        </p:blipFill>
        <p:spPr>
          <a:xfrm>
            <a:off x="7164360" y="1341360"/>
            <a:ext cx="1166760" cy="1366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1" name="Picture 20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194472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28400" y="571680"/>
            <a:ext cx="647676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bddc3"/>
                </a:solidFill>
                <a:latin typeface="Calibri"/>
              </a:rPr>
              <a:t>СКОРОСТЬ ХИМИЧЕСКИХ РЕАКЦИЙ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pic>
        <p:nvPicPr>
          <p:cNvPr id="397" name="Picture 4" descr="Лисёнок1"/>
          <p:cNvPicPr/>
          <p:nvPr/>
        </p:nvPicPr>
        <p:blipFill>
          <a:blip r:embed="rId1"/>
          <a:stretch/>
        </p:blipFill>
        <p:spPr>
          <a:xfrm>
            <a:off x="6429240" y="2500200"/>
            <a:ext cx="2500560" cy="308952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6"/>
          <p:cNvSpPr/>
          <p:nvPr/>
        </p:nvSpPr>
        <p:spPr>
          <a:xfrm>
            <a:off x="539640" y="3000240"/>
            <a:ext cx="518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ddc3"/>
                </a:solidFill>
                <a:latin typeface="Arial"/>
              </a:rPr>
              <a:t>Химическая кинетика</a:t>
            </a:r>
            <a:r>
              <a:rPr b="0" lang="ru-RU" sz="3200" spc="-1" strike="noStrike">
                <a:solidFill>
                  <a:srgbClr val="ebddc3"/>
                </a:solidFill>
                <a:latin typeface="Arial"/>
              </a:rPr>
              <a:t> изучает скор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ddc3"/>
                </a:solidFill>
                <a:latin typeface="Arial"/>
              </a:rPr>
              <a:t>и механизмы химических реа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Calibri"/>
              </a:rPr>
              <a:t>Механизм разложения пероксида водорода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182600" y="2017440"/>
            <a:ext cx="777240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H</a:t>
            </a:r>
            <a:r>
              <a:rPr b="1" lang="en-US" sz="29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O</a:t>
            </a:r>
            <a:r>
              <a:rPr b="1" lang="en-US" sz="29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 = 2H</a:t>
            </a:r>
            <a:r>
              <a:rPr b="1" lang="en-US" sz="29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O + O</a:t>
            </a:r>
            <a:r>
              <a:rPr b="1" lang="en-US" sz="29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(1)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</a:rPr>
              <a:t>H</a:t>
            </a:r>
            <a:r>
              <a:rPr b="1" lang="en-US" sz="29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900" spc="-1" strike="noStrike" baseline="-25000">
                <a:solidFill>
                  <a:srgbClr val="0000cc"/>
                </a:solidFill>
                <a:latin typeface="Times New Roman"/>
              </a:rPr>
              <a:t>2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</a:rPr>
              <a:t>= H</a:t>
            </a:r>
            <a:r>
              <a:rPr b="1" lang="en-US" sz="29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</a:rPr>
              <a:t> + HO</a:t>
            </a:r>
            <a:r>
              <a:rPr b="1" lang="en-US" sz="29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900" spc="-1" strike="noStrike" baseline="30000">
                <a:solidFill>
                  <a:srgbClr val="0000cc"/>
                </a:solidFill>
                <a:latin typeface="Times New Roman"/>
              </a:rPr>
              <a:t>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(2)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ff0066"/>
                </a:solidFill>
                <a:latin typeface="Times New Roman"/>
              </a:rPr>
              <a:t>HO</a:t>
            </a:r>
            <a:r>
              <a:rPr b="1" lang="en-US" sz="29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900" spc="-1" strike="noStrike" baseline="30000">
                <a:solidFill>
                  <a:srgbClr val="ff0066"/>
                </a:solidFill>
                <a:latin typeface="Times New Roman"/>
              </a:rPr>
              <a:t>-</a:t>
            </a:r>
            <a:r>
              <a:rPr b="1" lang="en-US" sz="2900" spc="-1" strike="noStrike">
                <a:solidFill>
                  <a:srgbClr val="ff0066"/>
                </a:solidFill>
                <a:latin typeface="Times New Roman"/>
              </a:rPr>
              <a:t> + H</a:t>
            </a:r>
            <a:r>
              <a:rPr b="1" lang="en-US" sz="29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29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66"/>
                </a:solidFill>
                <a:latin typeface="Times New Roman"/>
              </a:rPr>
              <a:t> = H</a:t>
            </a:r>
            <a:r>
              <a:rPr b="1" lang="en-US" sz="29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66"/>
                </a:solidFill>
                <a:latin typeface="Times New Roman"/>
              </a:rPr>
              <a:t>O + O</a:t>
            </a:r>
            <a:r>
              <a:rPr b="1" lang="en-US" sz="29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66"/>
                </a:solidFill>
                <a:latin typeface="Times New Roman"/>
              </a:rPr>
              <a:t> + OH</a:t>
            </a:r>
            <a:r>
              <a:rPr b="1" lang="en-US" sz="2900" spc="-1" strike="noStrike" baseline="30000">
                <a:solidFill>
                  <a:srgbClr val="ff0066"/>
                </a:solidFill>
                <a:latin typeface="Times New Roman"/>
              </a:rPr>
              <a:t>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(3)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336600"/>
                </a:solidFill>
                <a:latin typeface="Times New Roman"/>
              </a:rPr>
              <a:t>OH</a:t>
            </a:r>
            <a:r>
              <a:rPr b="1" lang="en-US" sz="2900" spc="-1" strike="noStrike" baseline="30000">
                <a:solidFill>
                  <a:srgbClr val="336600"/>
                </a:solidFill>
                <a:latin typeface="Times New Roman"/>
              </a:rPr>
              <a:t>-</a:t>
            </a:r>
            <a:r>
              <a:rPr b="1" lang="en-US" sz="2900" spc="-1" strike="noStrike">
                <a:solidFill>
                  <a:srgbClr val="336600"/>
                </a:solidFill>
                <a:latin typeface="Times New Roman"/>
              </a:rPr>
              <a:t> + H</a:t>
            </a:r>
            <a:r>
              <a:rPr b="1" lang="en-US" sz="2900" spc="-1" strike="noStrike" baseline="30000">
                <a:solidFill>
                  <a:srgbClr val="336600"/>
                </a:solidFill>
                <a:latin typeface="Times New Roman"/>
              </a:rPr>
              <a:t>+</a:t>
            </a:r>
            <a:r>
              <a:rPr b="1" lang="en-US" sz="2900" spc="-1" strike="noStrike">
                <a:solidFill>
                  <a:srgbClr val="336600"/>
                </a:solidFill>
                <a:latin typeface="Times New Roman"/>
              </a:rPr>
              <a:t> = H</a:t>
            </a:r>
            <a:r>
              <a:rPr b="1" lang="en-US" sz="2900" spc="-1" strike="noStrike" baseline="-25000">
                <a:solidFill>
                  <a:srgbClr val="3366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336600"/>
                </a:solidFill>
                <a:latin typeface="Times New Roman"/>
              </a:rPr>
              <a:t>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3274560" y="5300640"/>
            <a:ext cx="53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7b615"/>
                </a:solidFill>
                <a:uFillTx/>
                <a:latin typeface="Times New Roman"/>
              </a:rPr>
              <a:t>Посмотрите опыт «Разложение пероксида водор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3 % раствор перекиси водород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620640"/>
            <a:ext cx="1517760" cy="244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per"/>
          <p:cNvPicPr/>
          <p:nvPr/>
        </p:nvPicPr>
        <p:blipFill>
          <a:blip r:embed="rId3"/>
          <a:stretch/>
        </p:blipFill>
        <p:spPr>
          <a:xfrm>
            <a:off x="755640" y="5084640"/>
            <a:ext cx="1238400" cy="838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75f55"/>
                </a:solidFill>
                <a:latin typeface="Calibri"/>
              </a:rPr>
              <a:t>Разложение </a:t>
            </a:r>
            <a:r>
              <a:rPr b="0" lang="en-US" sz="3300" spc="-1" strike="noStrike">
                <a:solidFill>
                  <a:srgbClr val="775f55"/>
                </a:solidFill>
                <a:latin typeface="Tw Cen MT"/>
              </a:rPr>
              <a:t>H</a:t>
            </a:r>
            <a:r>
              <a:rPr b="0" lang="en-US" sz="3300" spc="-1" strike="noStrike" baseline="-25000">
                <a:solidFill>
                  <a:srgbClr val="775f55"/>
                </a:solidFill>
                <a:latin typeface="Tw Cen MT"/>
              </a:rPr>
              <a:t>2</a:t>
            </a:r>
            <a:r>
              <a:rPr b="0" lang="en-US" sz="3300" spc="-1" strike="noStrike">
                <a:solidFill>
                  <a:srgbClr val="775f55"/>
                </a:solidFill>
                <a:latin typeface="Tw Cen MT"/>
              </a:rPr>
              <a:t>O</a:t>
            </a:r>
            <a:r>
              <a:rPr b="0" lang="en-US" sz="3300" spc="-1" strike="noStrike" baseline="-25000">
                <a:solidFill>
                  <a:srgbClr val="775f55"/>
                </a:solidFill>
                <a:latin typeface="Tw Cen MT"/>
              </a:rPr>
              <a:t>2</a:t>
            </a:r>
            <a:r>
              <a:rPr b="0" lang="en-US" sz="33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ru-RU" sz="3300" spc="-1" strike="noStrike">
                <a:solidFill>
                  <a:srgbClr val="775f55"/>
                </a:solidFill>
                <a:latin typeface="Calibri"/>
              </a:rPr>
              <a:t>в</a:t>
            </a:r>
            <a:r>
              <a:rPr b="0" lang="en-US" sz="33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ru-RU" sz="3300" spc="-1" strike="noStrike">
                <a:solidFill>
                  <a:srgbClr val="775f55"/>
                </a:solidFill>
                <a:latin typeface="Calibri"/>
              </a:rPr>
              <a:t>присутствии </a:t>
            </a:r>
            <a:r>
              <a:rPr b="0" lang="en-US" sz="3300" spc="-1" strike="noStrike">
                <a:solidFill>
                  <a:srgbClr val="775f55"/>
                </a:solidFill>
                <a:latin typeface="Tw Cen MT"/>
              </a:rPr>
              <a:t>Fe</a:t>
            </a:r>
            <a:r>
              <a:rPr b="0" lang="en-US" sz="3300" spc="-1" strike="noStrike" baseline="30000">
                <a:solidFill>
                  <a:srgbClr val="775f55"/>
                </a:solidFill>
                <a:latin typeface="Tw Cen MT"/>
              </a:rPr>
              <a:t>3+</a:t>
            </a:r>
            <a:endParaRPr b="0" lang="en-US" sz="33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 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3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 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3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 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3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OH + O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H + 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 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 + 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 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3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 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5651640" y="357840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1619280" y="414972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5867280" y="2360520"/>
            <a:ext cx="2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1913040" y="297972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5651640" y="413856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3203640" y="473544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372960" y="6235560"/>
            <a:ext cx="396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7b615"/>
                </a:solidFill>
                <a:uFillTx/>
                <a:latin typeface="Times New Roman"/>
              </a:rPr>
              <a:t>Сравните с механизмом без участия катализат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0"/>
                            </p:stCondLst>
                            <p:childTnLst>
                              <p:par>
                                <p:cTn id="4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280"/>
                            </p:stCondLst>
                            <p:childTnLst>
                              <p:par>
                                <p:cTn id="4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28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280"/>
                            </p:stCondLst>
                            <p:childTnLst>
                              <p:par>
                                <p:cTn id="4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28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280"/>
                            </p:stCondLst>
                            <p:childTnLst>
                              <p:par>
                                <p:cTn id="5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40"/>
                            </p:stCondLst>
                            <p:childTnLst>
                              <p:par>
                                <p:cTn id="5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Терминологи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cc"/>
                </a:solidFill>
                <a:latin typeface="Calibri"/>
              </a:rPr>
              <a:t>Катализ, катализатор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cc"/>
                </a:solidFill>
                <a:latin typeface="Calibri"/>
              </a:rPr>
              <a:t>Ингибитор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cc"/>
                </a:solidFill>
                <a:latin typeface="Calibri"/>
              </a:rPr>
              <a:t>Промотор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cc"/>
                </a:solidFill>
                <a:latin typeface="Calibri"/>
              </a:rPr>
              <a:t>Каталитические яд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cc"/>
                </a:solidFill>
                <a:latin typeface="Calibri"/>
              </a:rPr>
              <a:t>Гомогенный и гетерогенный катализ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cc"/>
                </a:solidFill>
                <a:latin typeface="Calibri"/>
              </a:rPr>
              <a:t>Фермент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Особенности ферментативного катализ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сокая избирательность и специфичность катализатор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Жесткие требования к условиям протекания реакций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725040" y="4437000"/>
            <a:ext cx="3123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лассификация фер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сиредукт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фер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дрол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мер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газы (синтетаз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5" descr="FG15_18a_c"/>
          <p:cNvPicPr/>
          <p:nvPr/>
        </p:nvPicPr>
        <p:blipFill>
          <a:blip r:embed="rId1"/>
          <a:stretch/>
        </p:blipFill>
        <p:spPr>
          <a:xfrm>
            <a:off x="3995640" y="4365720"/>
            <a:ext cx="475308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0000"/>
                </a:solidFill>
                <a:latin typeface="Calibri"/>
              </a:rPr>
              <a:t>Влияние катализатора на путь химической реакции</a:t>
            </a:r>
            <a:endParaRPr b="0" lang="en-US" sz="31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539640" y="20606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539640" y="2924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539640" y="3716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539640" y="45086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539640" y="53006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8"/>
              <p:cNvSpPr txBox="1"/>
              <p:nvPr/>
            </p:nvSpPr>
            <p:spPr>
              <a:xfrm>
                <a:off x="1116000" y="2008080"/>
                <a:ext cx="64803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9"/>
              <p:cNvSpPr txBox="1"/>
              <p:nvPr/>
            </p:nvSpPr>
            <p:spPr>
              <a:xfrm>
                <a:off x="1116000" y="2873520"/>
                <a:ext cx="496872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acc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10"/>
              <p:cNvSpPr txBox="1"/>
              <p:nvPr/>
            </p:nvSpPr>
            <p:spPr>
              <a:xfrm>
                <a:off x="1116000" y="3645000"/>
                <a:ext cx="57610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H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11"/>
              <p:cNvSpPr txBox="1"/>
              <p:nvPr/>
            </p:nvSpPr>
            <p:spPr>
              <a:xfrm>
                <a:off x="1116000" y="4457880"/>
                <a:ext cx="6624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−</m:t>
                    </m:r>
                    <m:r>
                      <m:t xml:space="preserve">O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12"/>
              <p:cNvSpPr txBox="1"/>
              <p:nvPr/>
            </p:nvSpPr>
            <p:spPr>
              <a:xfrm>
                <a:off x="1116000" y="5248440"/>
                <a:ext cx="7704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3" name="Text Box 13"/>
          <p:cNvSpPr/>
          <p:nvPr/>
        </p:nvSpPr>
        <p:spPr>
          <a:xfrm>
            <a:off x="4716360" y="566100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бутадиен-1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4716360" y="486900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этилаце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5"/>
          <p:cNvSpPr/>
          <p:nvPr/>
        </p:nvSpPr>
        <p:spPr>
          <a:xfrm>
            <a:off x="4356000" y="407664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ацетальдег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6"/>
          <p:cNvSpPr/>
          <p:nvPr/>
        </p:nvSpPr>
        <p:spPr>
          <a:xfrm>
            <a:off x="4427640" y="3284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эти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7"/>
          <p:cNvSpPr/>
          <p:nvPr/>
        </p:nvSpPr>
        <p:spPr>
          <a:xfrm>
            <a:off x="4716360" y="2492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иэтиловый эф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Условия протекания химических реа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1187280" y="1981080"/>
            <a:ext cx="7499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94b6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94b6d2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прикосновение реагирующих вещест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94b6d2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гре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94b6d2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ие катализат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Calibri"/>
              </a:rPr>
              <a:t>Сущность химических реакций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ность химических реакций сводится к разрыву связей в исходных веществах и возникновению новых связей в продуктах реа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е число атомов каждого химического элемента до и после реакции остаётся постоянн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ние связей происходит с выделением энергии, а разрыв связей – с поглощением энерг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5f55"/>
                </a:solidFill>
                <a:latin typeface="Calibri"/>
              </a:rPr>
              <a:t>Скорость химических реакций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755640" y="3730680"/>
                <a:ext cx="11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c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5535720" y="2602080"/>
                <a:ext cx="2952720" cy="70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,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моль</m:t>
                        </m:r>
                      </m:num>
                      <m:den>
                        <m:r>
                          <m:t xml:space="preserve">л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6" name="Text Box 6"/>
          <p:cNvSpPr/>
          <p:nvPr/>
        </p:nvSpPr>
        <p:spPr>
          <a:xfrm>
            <a:off x="2189160" y="3933720"/>
            <a:ext cx="28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гомогенных сист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1626480" y="1989000"/>
            <a:ext cx="30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A  +  B  =  D  + 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916920" y="2421000"/>
            <a:ext cx="1443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2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ль/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861840" y="2781360"/>
            <a:ext cx="161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,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ль/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3"/>
              <p:cNvSpPr txBox="1"/>
              <p:nvPr/>
            </p:nvSpPr>
            <p:spPr>
              <a:xfrm>
                <a:off x="5508720" y="3357720"/>
                <a:ext cx="33494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,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моль</m:t>
                        </m:r>
                      </m:num>
                      <m:den>
                        <m:r>
                          <m:t xml:space="preserve">л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1" name="Text Box 11"/>
          <p:cNvSpPr/>
          <p:nvPr/>
        </p:nvSpPr>
        <p:spPr>
          <a:xfrm>
            <a:off x="2585160" y="256536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4"/>
              <p:cNvSpPr txBox="1"/>
              <p:nvPr/>
            </p:nvSpPr>
            <p:spPr>
              <a:xfrm>
                <a:off x="523800" y="4851360"/>
                <a:ext cx="16876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ν</m:t>
                        </m:r>
                      </m:num>
                      <m:den>
                        <m:r>
                          <m:t xml:space="preserve">S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3" name="Text Box 15"/>
          <p:cNvSpPr/>
          <p:nvPr/>
        </p:nvSpPr>
        <p:spPr>
          <a:xfrm>
            <a:off x="2263680" y="521172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гетерогенных сист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cc0000"/>
                </a:solidFill>
                <a:latin typeface="Calibri"/>
              </a:rPr>
              <a:t>Изменение концентрации реагирующего вещества во времени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1239840" y="6324480"/>
            <a:ext cx="59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611280" y="1484280"/>
            <a:ext cx="7199640" cy="5101200"/>
            <a:chOff x="611280" y="1484280"/>
            <a:chExt cx="7199640" cy="5101200"/>
          </a:xfrm>
        </p:grpSpPr>
        <p:grpSp>
          <p:nvGrpSpPr>
            <p:cNvPr id="417" name="Group 5"/>
            <p:cNvGrpSpPr/>
            <p:nvPr/>
          </p:nvGrpSpPr>
          <p:grpSpPr>
            <a:xfrm>
              <a:off x="611280" y="1484280"/>
              <a:ext cx="7199640" cy="5101200"/>
              <a:chOff x="611280" y="1484280"/>
              <a:chExt cx="7199640" cy="5101200"/>
            </a:xfrm>
          </p:grpSpPr>
          <p:graphicFrame>
            <p:nvGraphicFramePr>
              <p:cNvPr id="418" name="Object 6"/>
              <p:cNvGraphicFramePr/>
              <p:nvPr/>
            </p:nvGraphicFramePr>
            <p:xfrm>
              <a:off x="1355400" y="1484280"/>
              <a:ext cx="6455520" cy="45619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19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55400" y="1484280"/>
                        <a:ext cx="6455520" cy="456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0" name="Text Box 7"/>
              <p:cNvSpPr/>
              <p:nvPr/>
            </p:nvSpPr>
            <p:spPr>
              <a:xfrm>
                <a:off x="1851840" y="1990800"/>
                <a:ext cx="18432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8"/>
              <p:cNvSpPr/>
              <p:nvPr/>
            </p:nvSpPr>
            <p:spPr>
              <a:xfrm>
                <a:off x="1275840" y="190512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ahoma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Text Box 9"/>
              <p:cNvSpPr/>
              <p:nvPr/>
            </p:nvSpPr>
            <p:spPr>
              <a:xfrm>
                <a:off x="6960960" y="6064560"/>
                <a:ext cx="18432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10"/>
              <p:cNvSpPr/>
              <p:nvPr/>
            </p:nvSpPr>
            <p:spPr>
              <a:xfrm rot="16200000">
                <a:off x="-429480" y="3961800"/>
                <a:ext cx="24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ahoma"/>
                  </a:rPr>
                  <a:t>Концентрац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11"/>
              <p:cNvSpPr/>
              <p:nvPr/>
            </p:nvSpPr>
            <p:spPr>
              <a:xfrm>
                <a:off x="5742360" y="6217200"/>
                <a:ext cx="157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ahoma"/>
                  </a:rPr>
                  <a:t>Врем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Text Box 12"/>
              <p:cNvSpPr/>
              <p:nvPr/>
            </p:nvSpPr>
            <p:spPr>
              <a:xfrm>
                <a:off x="1189800" y="3427560"/>
                <a:ext cx="401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ahoma"/>
                  </a:rPr>
                  <a:t>С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13"/>
              <p:cNvSpPr/>
              <p:nvPr/>
            </p:nvSpPr>
            <p:spPr>
              <a:xfrm>
                <a:off x="1189080" y="4525200"/>
                <a:ext cx="478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ahoma"/>
                  </a:rPr>
                  <a:t>С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14"/>
              <p:cNvSpPr/>
              <p:nvPr/>
            </p:nvSpPr>
            <p:spPr>
              <a:xfrm>
                <a:off x="2017800" y="5710680"/>
                <a:ext cx="435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Text Box 15"/>
              <p:cNvSpPr/>
              <p:nvPr/>
            </p:nvSpPr>
            <p:spPr>
              <a:xfrm>
                <a:off x="2928600" y="5710680"/>
                <a:ext cx="810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AutoShape 16"/>
            <p:cNvSpPr/>
            <p:nvPr/>
          </p:nvSpPr>
          <p:spPr>
            <a:xfrm>
              <a:off x="1685880" y="3767040"/>
              <a:ext cx="173160" cy="1013760"/>
            </a:xfrm>
            <a:custGeom>
              <a:avLst/>
              <a:gdLst>
                <a:gd name="textAreaLeft" fmla="*/ 0 w 173160"/>
                <a:gd name="textAreaRight" fmla="*/ 62640 w 173160"/>
                <a:gd name="textAreaTop" fmla="*/ 26280 h 1013760"/>
                <a:gd name="textAreaBottom" fmla="*/ 987480 h 101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17"/>
            <p:cNvSpPr/>
            <p:nvPr/>
          </p:nvSpPr>
          <p:spPr>
            <a:xfrm rot="16200000">
              <a:off x="2579040" y="5232240"/>
              <a:ext cx="95040" cy="884880"/>
            </a:xfrm>
            <a:custGeom>
              <a:avLst/>
              <a:gdLst>
                <a:gd name="textAreaLeft" fmla="*/ 0 w 95040"/>
                <a:gd name="textAreaRight" fmla="*/ 34200 w 95040"/>
                <a:gd name="textAreaTop" fmla="*/ 23040 h 884880"/>
                <a:gd name="textAreaBottom" fmla="*/ 861840 h 8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663"/>
                  </a:lnTo>
                  <a:cubicBezTo>
                    <a:pt x="10800" y="9563"/>
                    <a:pt x="16200" y="10463"/>
                    <a:pt x="21600" y="10463"/>
                  </a:cubicBezTo>
                  <a:cubicBezTo>
                    <a:pt x="16200" y="10463"/>
                    <a:pt x="10800" y="11363"/>
                    <a:pt x="10800" y="12263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18"/>
            <p:cNvSpPr/>
            <p:nvPr/>
          </p:nvSpPr>
          <p:spPr>
            <a:xfrm>
              <a:off x="5548320" y="32770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∆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∆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19"/>
            <p:cNvSpPr/>
            <p:nvPr/>
          </p:nvSpPr>
          <p:spPr>
            <a:xfrm>
              <a:off x="4780080" y="342792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20"/>
            <p:cNvSpPr/>
            <p:nvPr/>
          </p:nvSpPr>
          <p:spPr>
            <a:xfrm>
              <a:off x="1763640" y="41043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∆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21"/>
            <p:cNvSpPr/>
            <p:nvPr/>
          </p:nvSpPr>
          <p:spPr>
            <a:xfrm>
              <a:off x="2341080" y="5287680"/>
              <a:ext cx="41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∆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Факторы, влияющие на скорость реакции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онцентрация реагирующих вещест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емператур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рода реагирующих вещест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лощадь соприкосновения реагирующих вещест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тализатор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Концентрация реагирующих веществ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9900"/>
                </a:solidFill>
                <a:latin typeface="Calibri"/>
              </a:rPr>
              <a:t>Закон действующих масс</a:t>
            </a:r>
            <a:r>
              <a:rPr b="0" lang="en-US" sz="2900" spc="-1" strike="noStrike">
                <a:solidFill>
                  <a:srgbClr val="009900"/>
                </a:solidFill>
                <a:latin typeface="Tw Cen MT"/>
              </a:rPr>
              <a:t> (</a:t>
            </a:r>
            <a:r>
              <a:rPr b="0" lang="ru-RU" sz="2900" spc="-1" strike="noStrike">
                <a:solidFill>
                  <a:srgbClr val="009900"/>
                </a:solidFill>
                <a:latin typeface="Calibri"/>
              </a:rPr>
              <a:t>ЗДМ</a:t>
            </a:r>
            <a:r>
              <a:rPr b="0" lang="en-US" sz="2900" spc="-1" strike="noStrike">
                <a:solidFill>
                  <a:srgbClr val="009900"/>
                </a:solidFill>
                <a:latin typeface="Tw Cen MT"/>
              </a:rPr>
              <a:t>) </a:t>
            </a:r>
            <a:r>
              <a:rPr b="0" lang="ru-RU" sz="2900" spc="-1" strike="noStrike">
                <a:solidFill>
                  <a:srgbClr val="009900"/>
                </a:solidFill>
                <a:latin typeface="Calibri"/>
              </a:rPr>
              <a:t>: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скорость химической реакции пропорциональна произведению концентраций реагирующих вещест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ля реакции: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+  nB  =  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      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ДМ:  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v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=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٠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900" spc="-1" strike="noStrike" baseline="-25000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m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٠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B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константа скорости реак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ри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1 моль/л и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А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  <a:cs typeface="Arial"/>
              </a:rPr>
              <a:t>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1 моль/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зависит от природы реагирующих веществ и от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w Cen MT"/>
              </a:rPr>
              <a:t>C</a:t>
            </a:r>
            <a:r>
              <a:rPr b="0" lang="ru-RU" sz="4400" spc="-1" strike="noStrike">
                <a:solidFill>
                  <a:srgbClr val="cc0000"/>
                </a:solidFill>
                <a:latin typeface="Calibri"/>
              </a:rPr>
              <a:t>корость и концентраци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40" name="B8-46.avi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4500360" cy="45626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Чем больше концентрация реагирующих веществ, тем чаще сталкиваются частицы веществ, а значит скорость реакции увеличиваетс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4" dur="1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15:59:04Z</dcterms:created>
  <dc:creator>zzzz</dc:creator>
  <dc:description/>
  <dc:language>en-US</dc:language>
  <cp:lastModifiedBy>Admin</cp:lastModifiedBy>
  <dcterms:modified xsi:type="dcterms:W3CDTF">2012-12-18T05:24:51Z</dcterms:modified>
  <cp:revision>8</cp:revision>
  <dc:subject/>
  <dc:title>Химическая кинетика  и катализ</dc:title>
</cp:coreProperties>
</file>